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33A-76ED-4CFD-9A7F-1D3C12CB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488-F19D-481C-84F2-388C874A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BC0-4781-4693-83BF-0A70C8E1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288-6D57-4625-A1A8-973CF22E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9E5-1BFC-47A5-8E9A-B2F44942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692-1643-4298-AC05-5A26110E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B72-8E5D-40BC-8F90-7594D8D3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D27-1049-4959-8312-D8822471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DAE-A41A-468E-8B58-92FBB952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47E-89EB-4EF5-9698-9C102EEB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7AE4-711E-4894-92E7-95199C2F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D84-A57C-4B12-89FF-FD886A62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FBF393-3CC1-4E45-A725-0D74AC2D20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iridl.ldeo.columbia.edu/expert/SOURCES/.NOAA/.NCEP/.EMC/.CMB/.GLOBAL/.Reyn_SmithOIv2/.monthly/.sst/X/%28-30%20%29%28-10%29RANGEEDGES/T/%28Jan%201986%29%28Dec%202005%29RANGEEDGES/Y/%28-10%29%2810%29RANGEEDGES/%5BX+Y+%5Daverage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616800" y="4660920"/>
            <a:ext cx="3301920" cy="3301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Exerc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 des domaines (spatiaux et temporels)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Calcul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Clima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Moyennes spat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Moyennes saisonniè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Personnaliser des cartes/grap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Créer des mas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52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Exemple 5 :</a:t>
            </a:r>
            <a:br>
              <a:rPr sz="2800"/>
            </a:b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Télécharger les précipitations moyennées par ensemble des prévisions du modèle ECHAM4.5 faites en Jan 1968 – 2003 pour la saison FMA 1968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981080"/>
            <a:ext cx="9067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Localisation des donné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IRI FD ECHAM4.5 Forecast psst ensemble12 MONTHLY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Astuce : la grille L decrit l’horizon de prevision (Lead time). L=0.5 indique que la prevision est faite pour le meme mois que celui de depart de la prev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emple:  S= Aug 1970, L=2.5 </a:t>
            </a: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Prevision pour Oct 19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electionner des dates d’initialisation (Start time) pour 1 Jan 1968-2003 et de previsions pour F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Calculer les moyennes d’ensemble et de Lead time grace a la page Fil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Voir Ingrid en Mode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457200"/>
            <a:ext cx="9144000" cy="685800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Exemple 5 : Résulta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81628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Pour télécharger les donné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Cliquer sur </a:t>
            </a:r>
            <a:r>
              <a:rPr b="0" lang="fr-FR" sz="1800" spc="-1" strike="noStrike" u="sng">
                <a:solidFill>
                  <a:srgbClr val="3333cc"/>
                </a:solidFill>
                <a:uFillTx/>
                <a:latin typeface="Arial"/>
              </a:rPr>
              <a:t>Data Files</a:t>
            </a: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 et choisir </a:t>
            </a:r>
            <a:r>
              <a:rPr b="0" lang="fr-FR" sz="1800" spc="-1" strike="noStrike" u="sng">
                <a:solidFill>
                  <a:srgbClr val="3333cc"/>
                </a:solidFill>
                <a:uFillTx/>
                <a:latin typeface="Arial"/>
              </a:rPr>
              <a:t>CPT</a:t>
            </a: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6248520" cy="5924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7520" y="518148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VOIR LES RE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Trouver les données UEA CRU TS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ner la variable monthly mean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ner une période de référence pour la climatologie (1971-2000)</a:t>
            </a:r>
            <a:r>
              <a:rPr b="0" lang="en-US" sz="2000" spc="-1" strike="noStrike">
                <a:solidFill>
                  <a:srgbClr val="17245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ner le lien Monthly Climatology de la page des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Voir Ingrid en Mode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Visualiser les données dans le data 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ner la région de votre p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ner une échelle de couleur pour la température et ajouter les frontières et les rivi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Animer la carte en tapant “Jan to Dec” dans la boit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Exemple 6:</a:t>
            </a:r>
            <a:br>
              <a:rPr sz="2800"/>
            </a:b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Faire une animation de la climatologie mensuelle de la température de votre pays, incluant les frontières provinciales et les rivières maje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17028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Exemple 6 : Résulta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5029200" cy="4375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4320" y="137160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Premier cadre d’ani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51280" y="2362320"/>
            <a:ext cx="43927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025720"/>
            <a:ext cx="822960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Trouver les données UEA CRU TS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ner la climatologie 1971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ner la variable de précip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En Mode Expert, taper le texte suivant puis cliquer 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[T] 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En Mode Expert, taper le texte suivant, puis cliquer 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125 mask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Visualiser les données dans le data 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Personnaliser la c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Exemple 7 :</a:t>
            </a:r>
            <a:br>
              <a:rPr sz="3200"/>
            </a:br>
            <a:r>
              <a:rPr b="0" lang="en-US" sz="28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Faire une carte mondiale de la précipitation annuelle pour les zones qui reçoivent plus de 5 pouces par 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939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Exemple 7 : Résulta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4338720" cy="484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91120" y="1371600"/>
            <a:ext cx="4692600" cy="5286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2640" y="609588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VOIR LES RE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Exemp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Utiliser le catalogue Datasets by Category pour trouver des données avec les caractéristique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1. contient des observations de températures de surface de la mer (sea surface temperature)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2. résolution temporelles mens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3. résolution spatiale d’au moins 1ºx1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4. avec un domaine spatial incluant 60ºS-60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5. Incluant les années 1985-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Exemple 1: Résul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796000" cy="53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84240"/>
            <a:ext cx="914400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Exemple 2 :</a:t>
            </a:r>
            <a:br>
              <a:rPr sz="3200"/>
            </a:br>
            <a:r>
              <a:rPr b="0" lang="en-US" sz="28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Préparer des données de SST mensuelles moyennées sur l’océan Atlantique Tropical pour la période 1986-2005 et à utiliser dans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2376360"/>
            <a:ext cx="89917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Avec les données Reyn_SmithOIv2 month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ner la variable Sea Surfac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ner le période Jan 1986 – Dec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ner l’Atlantique Tropical (10ºS-10ºN, 330ºE-350ºE)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Calculer la moyenne spatiale (lien XY dans la page des Filtr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Voir Ingrid en Mod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Voir les données dans le data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Télécharger dans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199548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OMMENCER 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Exemple 2: Résulta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24280" y="3763800"/>
            <a:ext cx="4548240" cy="3094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715000" y="1600200"/>
            <a:ext cx="3429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télécharger des donné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quer sur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abl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choisir le format tsv ou csv, et cliquer 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t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5715000" cy="470844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3"/>
          </p:cNvPr>
          <p:cNvSpPr/>
          <p:nvPr/>
        </p:nvSpPr>
        <p:spPr>
          <a:xfrm>
            <a:off x="687600" y="609588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VOIR LES RE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0800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Exemple 3:</a:t>
            </a:r>
            <a:br>
              <a:rPr sz="2800"/>
            </a:br>
            <a:r>
              <a:rPr b="0" lang="en-US" sz="28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Faire une carte mondiale de SSTA saisonnière pour la période Jan 1982 – Dec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2368080"/>
            <a:ext cx="891540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Avec les données Reyn_SmithOIv2 month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ner la variable Sea Surface Temperature (Ignorer la variable SSTA existante – faisons le caclul nous-mêmes)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ner la période Jan 1982-Dec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ner le lien anomalies dans la pag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Voir Ingrid en Mode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En Mode Expert taper le texte suivant, puis cliquer 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T 3 running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Visualiser les données dans le data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ner une échelle de couleur appropriée pour la S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176688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OMMENCER 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Exemple 3: Résulta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960480"/>
            <a:ext cx="5257800" cy="489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37000" y="1162080"/>
            <a:ext cx="4707000" cy="569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5320" y="609588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VOIR LES RE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Exemple 4:</a:t>
            </a:r>
            <a:br>
              <a:rPr sz="2800"/>
            </a:br>
            <a:r>
              <a:rPr b="0" lang="en-US" sz="28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Faire des séries temporelles de données de température issues de stations météo de Madagas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5345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Avec les données home remic CIPH Madagas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ner une station de Madagas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Sélectionner une variable de tempé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Visualiser les données dans le data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ba9"/>
                </a:solidFill>
                <a:latin typeface="Arial"/>
                <a:ea typeface="ＭＳ Ｐゴシック"/>
              </a:rPr>
              <a:t>Exemple 4 : Résul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09120" cy="5499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60920" y="62485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VOIR LES RE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mumbo</dc:creator>
  <dc:description/>
  <dc:language>en-US</dc:language>
  <cp:lastModifiedBy>lcibrelus</cp:lastModifiedBy>
  <dcterms:modified xsi:type="dcterms:W3CDTF">2009-10-01T18:20:34Z</dcterms:modified>
  <cp:revision>2</cp:revision>
  <dc:subject/>
  <dc:title>Group Examples</dc:title>
</cp:coreProperties>
</file>