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34320" cy="923436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34360"/>
              <a:gd name="textAreaBottom" fmla="*/ 9234000 h 9234360"/>
            </a:gdLst>
            <a:ahLst/>
            <a:rect l="textAreaLeft" t="textAreaTop" r="textAreaRight" b="textAreaBottom"/>
            <a:pathLst>
              <a:path w="21600" h="28764">
                <a:moveTo>
                  <a:pt x="4" y="0"/>
                </a:moveTo>
                <a:arcTo wR="4" hR="4" stAng="16200000" swAng="-5400000"/>
                <a:lnTo>
                  <a:pt x="0" y="28760"/>
                </a:lnTo>
                <a:arcTo wR="4" hR="4" stAng="10800000" swAng="-5400000"/>
                <a:lnTo>
                  <a:pt x="21596" y="2876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0"/>
            <a:ext cx="3003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480" y="693360"/>
            <a:ext cx="4614840" cy="34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45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3003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72120"/>
            <a:ext cx="3003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699D9-87A8-40B0-806E-65F49C7BA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0A05B2-8D25-4F9F-A638-B8F64F3499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5884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93720" y="4381200"/>
            <a:ext cx="5546880" cy="417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1F1-2584-46C6-B4D7-F8AD6D06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B4A-258B-4CDC-98FF-3196B31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086-F1F2-4746-B0B9-2DE0FBAC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5C2-9AF8-4724-8E12-717C4E76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5D7-666E-462D-BEF0-21DD352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31D-9B07-4FBD-9E62-0064610C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86A-CE49-4AAD-A3AB-E6F8BB48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0A2-70B5-4F14-8AF8-BFA523F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A37-9258-4B02-9F27-B2E0E14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6C-9A87-467C-9D45-1BBB8C7E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84D-629E-42F2-9FC5-772972E9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91D-9712-4E5D-AD1D-D8F64E8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3A502-4832-4AF0-BFDB-7D60E6421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ridl.ldeo.columbia.edu/maproom/index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ridl.ldeo.columbia.edu/maproom/.Health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ridl.ldeo.columbia.edu/maproom/.Health/.Regional/.Africa/.Malaria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093680"/>
            <a:ext cx="844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5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élédétection Spatiale dans la Health Map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495360"/>
          </a:xfrm>
          <a:prstGeom prst="rect">
            <a:avLst/>
          </a:prstGeom>
          <a:solidFill>
            <a:srgbClr val="334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6960" y="3573360"/>
            <a:ext cx="58435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Pietro Cecca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The International Research Institute</a:t>
            </a:r>
            <a:br>
              <a:rPr sz="2400"/>
            </a:br>
            <a:r>
              <a:rPr b="0" lang="en-US" sz="2400" spc="-1" strike="noStrike">
                <a:solidFill>
                  <a:srgbClr val="17245f"/>
                </a:solidFill>
                <a:latin typeface="Arial"/>
                <a:ea typeface="ＭＳ Ｐゴシック"/>
              </a:rPr>
              <a:t>for Climat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616800" y="4660920"/>
            <a:ext cx="33019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162160"/>
            <a:ext cx="297180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pouvez visualiser différentes périodes en entrant une date spécifique dans la b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fr-FR" sz="2000" spc="-1" strike="noStrike">
                <a:solidFill>
                  <a:srgbClr val="cc3300"/>
                </a:solidFill>
                <a:latin typeface="Arial"/>
              </a:rPr>
              <a:t>Consei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vous entrez une période de temps supérieur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10-jours, une animation apparaitra correspondant à la période de temps introdu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67080" y="1581120"/>
            <a:ext cx="4648320" cy="398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1295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s Précipitations (M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334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Entrer une 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2162160" cy="343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2041560"/>
            <a:ext cx="2971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vous avez 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lectionné une période de temps plus grande que 10 jours, une animation apparaitra.  Vous pouvez sauver cette animation sous un format GIF pour différente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95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s Précipitations (M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Cliquer avec le bouton droit de la souris sur l’animation et sauver le fichier sous un format GIF (fonctionne uniquement avec           )</a:t>
            </a: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05320" y="5181480"/>
            <a:ext cx="542880" cy="695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36232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pouvez zoomer sur une région particu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 en utilisant le bouton gauche de la souris, cliquer et en maintenant le bouton gauche appuyé, sélectionné la ré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 Précipitations (MEW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Cliquer et sélectionner la ré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666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 agran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295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 Précipitations (M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51460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us pouvez également visuali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ct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pidemiological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ion de Précipitations (MEW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Sélectio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396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295280" cy="148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Et cliquer s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91120" y="6172200"/>
            <a:ext cx="542880" cy="485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48112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savoir si la pluie qui est tombée en un endroit est plus abondante qu’en moyenne ou moins abondante qu’en moyenne, vous pouvez extraire des séries temporel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 Précipitations (MEW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Arial"/>
              </a:rPr>
              <a:t>Sélectio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Et cliquer sur la 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2117880"/>
            <a:ext cx="205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tre graphes différents sont disponibles  pour la région sélectionné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s informations sont automatiquement traitées vi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49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cip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0" y="49320"/>
            <a:ext cx="678168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8892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graphe peu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e visualisé séparément et élargi en cliquant sur le grap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04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6553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810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pouvez télécharger les données du graphe en cliquant sur “Data in this grap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04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086600" cy="6808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280" y="4584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Cliqu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16208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810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télécharger les données dans Excel en copiant et collant l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04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ci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77760"/>
            <a:ext cx="5029200" cy="662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79244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195720"/>
            <a:ext cx="4496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éder aux données de plu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éder aux données de végé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éder aux données surfaces en 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éder aux données de tempé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195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xtraire des séries tempor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xtraire des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élécharger d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élécharger des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080" y="334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869080" cy="4910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127944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télécharger les images dans différents formats en cliquant sur les différents l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0880" y="5638680"/>
            <a:ext cx="312444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" y="4648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Cliquer s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962520" y="5638680"/>
            <a:ext cx="16095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095880" y="5638680"/>
            <a:ext cx="1524240" cy="92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50532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3868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8640" y="334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</a:rPr>
              <a:t>Télécharger les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télécharger les images sous un format PDF ou JPEG pour des pré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12444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543720" y="2438280"/>
            <a:ext cx="1609560" cy="905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523880" cy="923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2498760"/>
            <a:ext cx="42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télécharger les images sous un format GeoTiff (automatiquement géo-référencé en Lat-Long coordonnées) pour les SI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457200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télécharger les images sous un format image/données sous des formats pour analyser les données (exemple ERDAS, ENVI, Mat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8640" y="334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</a:rPr>
              <a:t>Télécharger les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2880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ridl.ldeo.columbia.edu/map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38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ns cet exercice, nous allons analyser l’interface Map Room Sant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Cliquer s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6240" y="334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</a:rPr>
              <a:t>Map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1444680"/>
            <a:ext cx="289548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ap Room contient des applications qui vous permettent d’accéder á différentes applications et produits tels que les précipitations, les températures de surfaces des océans, la végé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ap Room est divisée en plusieurs applications, une d’entre elle 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ealth =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971800"/>
            <a:ext cx="304920" cy="152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9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Cliquer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410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ridl.ldeo.columbia.edu/maproom/.Heal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4343400"/>
            <a:ext cx="8380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6240" y="334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</a:rPr>
              <a:t>Map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87360"/>
            <a:ext cx="289548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 “Climate and Health Resource Room” est divisé en deux parties: Malaria (Paludisme) et Meningitis (Mening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ns cet exercice, nous allons nous focaliser sur les données disponibles dans la section Paludisme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971800"/>
            <a:ext cx="304920" cy="152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00ff"/>
                </a:solidFill>
                <a:latin typeface="Chicago"/>
              </a:rPr>
              <a:t>Cliquer s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4100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ridl.ldeo.columbia.edu/maproom/.Health/.Regional/.Africa/.Malaria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u sur la carte de l’Af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429000"/>
            <a:ext cx="457200" cy="152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3348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ba9"/>
                </a:solidFill>
                <a:latin typeface="Arial"/>
              </a:rPr>
              <a:t>Climate et Health Map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24977" t="15657" r="16801" b="24564"/>
          <a:stretch/>
        </p:blipFill>
        <p:spPr>
          <a:xfrm>
            <a:off x="4191120" y="1447920"/>
            <a:ext cx="434484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307040" y="2832120"/>
            <a:ext cx="799920" cy="34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600200"/>
            <a:ext cx="350496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cette section, seules les données couvrant l’Afrique sont disponibles.  Les données pour d’autres régions du globe sont disponibles via la Data Libr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te section “Climate and Malaria” en Afrique contient des données s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cipita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égét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ditions climatiques saisonnières favorables a la transmission du paludis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èle ARMA de distribution des conditions climatiques favorables a la transmission du palud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835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Dérouler le menu pour visualiser d’autres c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920" y="3348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fffba9"/>
                </a:solidFill>
                <a:latin typeface="Arial"/>
              </a:rPr>
              <a:t>Map Room Climat et sant</a:t>
            </a:r>
            <a:r>
              <a:rPr b="0" lang="fr-FR" sz="2800" spc="-1" strike="noStrike">
                <a:solidFill>
                  <a:srgbClr val="fffba9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7077" t="22408" r="20849" b="6374"/>
          <a:stretch/>
        </p:blipFill>
        <p:spPr>
          <a:xfrm>
            <a:off x="4038480" y="762120"/>
            <a:ext cx="45910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191120" y="1447920"/>
            <a:ext cx="422892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2860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95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 aux Données de Préci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73364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76720" y="5638680"/>
            <a:ext cx="586728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133720"/>
            <a:ext cx="274320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onnées de précipitation sont obtenu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artir d’images satell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8620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duits suivant sont dispon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s Précipitations (Malaria Early Warning System: Système d’alerte préco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ces Précipi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centage Précipi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2244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tte interface permet de visualiser les estimations de p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pitations mis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jour tous les 10 jours  depuis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1581120"/>
            <a:ext cx="4648320" cy="398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1295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s Précipitations (M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Cliquer s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241452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249876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visualiser différentes périodes en cliquant sur l’icone contenant les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1581120"/>
            <a:ext cx="4648320" cy="398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imation des Précipitations (MEW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fr-FR" sz="1800" spc="-1" strike="noStrike">
                <a:solidFill>
                  <a:srgbClr val="9900ff"/>
                </a:solidFill>
                <a:latin typeface="Chicago"/>
              </a:rPr>
              <a:t>Cliquer s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5486400"/>
            <a:ext cx="1362240" cy="257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920" y="33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ba9"/>
                </a:solidFill>
                <a:latin typeface="Arial"/>
              </a:rPr>
              <a:t>Précip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ibrelus</cp:lastModifiedBy>
  <dcterms:modified xsi:type="dcterms:W3CDTF">2009-10-01T17:15:46Z</dcterms:modified>
  <cp:revision>56</cp:revision>
  <dc:subject/>
  <dc:title>PowerPoint Presentation</dc:title>
</cp:coreProperties>
</file>