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</p:sldIdLst>
  <p:sldSz cx="13003213" cy="9752013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2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1199"/>
              </a:spcBef>
              <a:buClr>
                <a:srgbClr val="747474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1199"/>
              </a:spcBef>
              <a:buClr>
                <a:srgbClr val="747474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1199"/>
              </a:spcBef>
              <a:buClr>
                <a:srgbClr val="747474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1199"/>
              </a:spcBef>
              <a:buClr>
                <a:srgbClr val="747474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ranslate.google.com/translate?hl=en&amp;sl=en&amp;tl=fr&amp;prev=_t&amp;u=http://en.wikipedia.org/wiki/Time_series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ranslate.google.com/translate?hl=en&amp;sl=en&amp;tl=fr&amp;prev=_t&amp;u=http://en.wikipedia.org/wiki/Data_point" TargetMode="Externa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0" y="0"/>
            <a:ext cx="13074480" cy="106822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1"/>
          <a:stretch/>
        </p:blipFill>
        <p:spPr>
          <a:xfrm>
            <a:off x="8674200" y="624852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nalyse exploratoire des séries temporelles</a:t>
            </a:r>
            <a:endParaRPr b="0" lang="en-US" sz="5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71320" y="5600520"/>
            <a:ext cx="11861640" cy="240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raduit de la présentation:</a:t>
            </a: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xploratory analysis of time series, par</a:t>
            </a: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ndrew W. Robertson</a:t>
            </a: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International Research Institute for Climate and Society (IRI)</a:t>
            </a: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he Earth Institute, Columbia University</a:t>
            </a: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-838080" y="-1544760"/>
            <a:ext cx="11430000" cy="1479096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71320" y="-152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Caractéristiques des moyennes hebdomadaires</a:t>
            </a:r>
            <a:r>
              <a:rPr b="0" lang="fr-FR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"/>
          <p:cNvSpPr/>
          <p:nvPr/>
        </p:nvSpPr>
        <p:spPr>
          <a:xfrm>
            <a:off x="9702720" y="4876920"/>
            <a:ext cx="2730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précipitations et le nombre de cas de paludisme peuvent être égal à zéro (mais jamais négatifs!) 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"/>
          <p:cNvSpPr/>
          <p:nvPr/>
        </p:nvSpPr>
        <p:spPr>
          <a:xfrm>
            <a:off x="9626760" y="2438280"/>
            <a:ext cx="27432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températures hebdomadaires ne varient pas beaucoup ici! 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"/>
          <p:cNvSpPr/>
          <p:nvPr/>
        </p:nvSpPr>
        <p:spPr>
          <a:xfrm>
            <a:off x="9626760" y="6934320"/>
            <a:ext cx="30477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précipitations et le nombre de cas de paludisme sont plus « bruyants » que la température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20268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Utiliser des moyennes dans le temps pour isoler les aspects climatiques</a:t>
            </a:r>
            <a:r>
              <a:rPr b="0" lang="fr-FR" sz="5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Nous sommes généralement intéressés par les associations entre le climat et la prévalence des maladies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9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ycle saisonnier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9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“</a:t>
            </a: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nomalies” du climat saisonnier à interannuel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9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ariations a plus long terme et  tendances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fluctuations climatiques au jour le jour sont moins intéressantes, bien que leurs valeurs puissent être pertinentes (plus d’information a venir) </a:t>
            </a:r>
            <a:br>
              <a:rPr sz="3000"/>
            </a:br>
            <a:r>
              <a:rPr b="0" lang="fr-FR" sz="3000" spc="-1" strike="noStrike">
                <a:solidFill>
                  <a:srgbClr val="17245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moyennes hebdomadaires des données précédentes incluent déjà une grande partie de la variabilité météorologique quotidienne, ainsi qu’un échantillon de la variabilité quotidienne du nombre de cas de paludisme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-533520" y="-1563840"/>
            <a:ext cx="11520720" cy="1490832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1320" y="1519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Relation entre les moyennes hebdomadaire et quotidienne de la température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320" y="763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Calculer la moyenn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1727280" y="5207040"/>
            <a:ext cx="6375240" cy="2324160"/>
          </a:xfrm>
          <a:prstGeom prst="rect">
            <a:avLst/>
          </a:prstGeom>
          <a:ln w="0">
            <a:noFill/>
          </a:ln>
        </p:spPr>
      </p:pic>
      <p:grpSp>
        <p:nvGrpSpPr>
          <p:cNvPr id="787" name=""/>
          <p:cNvGrpSpPr/>
          <p:nvPr/>
        </p:nvGrpSpPr>
        <p:grpSpPr>
          <a:xfrm>
            <a:off x="736560" y="2387520"/>
            <a:ext cx="8552160" cy="1270080"/>
            <a:chOff x="736560" y="2387520"/>
            <a:chExt cx="8552160" cy="1270080"/>
          </a:xfrm>
        </p:grpSpPr>
        <p:pic>
          <p:nvPicPr>
            <p:cNvPr id="788" name="" descr=""/>
            <p:cNvPicPr/>
            <p:nvPr/>
          </p:nvPicPr>
          <p:blipFill>
            <a:blip r:embed="rId2"/>
            <a:stretch/>
          </p:blipFill>
          <p:spPr>
            <a:xfrm>
              <a:off x="736560" y="2387520"/>
              <a:ext cx="24512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4714560" y="2933640"/>
              <a:ext cx="457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3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Moyenne d’un echantillon”</a:t>
              </a:r>
              <a:endParaRPr b="0" lang="en-US" sz="3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-990720" y="-1498680"/>
            <a:ext cx="11520720" cy="1490976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Impact de la moyenne hebdomadaire sur les précipitations quotidiennes</a:t>
            </a:r>
            <a:r>
              <a:rPr b="0" lang="fr-FR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-952560" y="-1523880"/>
            <a:ext cx="11520720" cy="1490976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d'une donnée quotidienne: </a:t>
            </a:r>
            <a:br>
              <a:rPr sz="3600"/>
            </a:br>
            <a:r>
              <a:rPr b="0" lang="fr-FR" sz="36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Nombre de jours de pluie par semaine</a:t>
            </a:r>
            <a:r>
              <a:rPr b="0" lang="fr-FR" sz="5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651640" y="-1203480"/>
            <a:ext cx="7939080" cy="1415916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11000" y="3049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Revenons à nos 3 moyennes hebdomadaires...</a:t>
            </a:r>
            <a:r>
              <a:rPr b="0" lang="fr-FR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507996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9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Nous allons maintenant lisser ces données dans le temps pour tenter d’identifier des régularités et des anomalies a l’échelle saisonnière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1320" y="1270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Moyenne mobil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50560" indent="-2505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a moyenne mobile est couramment utilisée avec des données issues </a:t>
            </a:r>
            <a:r>
              <a:rPr b="0" lang="fr-FR" sz="3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de séries t</a:t>
            </a: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mporelles pour lisser les fluctuations à court terme et de mettre en évidence les tendances à plus long terme ou les cycles.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50560" indent="-2505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xemple de moyenne mobile a 5 points :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2286000" y="4444920"/>
            <a:ext cx="7797960" cy="142236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71680" y="6083280"/>
            <a:ext cx="11861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Nous allons choisir une moyenne mobile de 11 semaines pour insister sur les échelles saisonnière (soit 3 mois) et a plus long terme  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 </a:t>
            </a: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11 semaines = 5 semaines avant + semaine en cours + 5 semaines après 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  </a:t>
            </a: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Notez que nous pouvons perdre 5 semaines, au début et de fin de la série</a:t>
            </a:r>
            <a:r>
              <a:rPr b="0" lang="fr-FR" sz="2600" spc="-1" strike="noStrike">
                <a:solidFill>
                  <a:srgbClr val="747474"/>
                </a:solidFill>
                <a:latin typeface="Helvetica Neu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-1104840" y="-1511280"/>
            <a:ext cx="11430000" cy="1479060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71320" y="-152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Moyennes mobiles: le filtre le plus simple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"/>
          <p:cNvSpPr/>
          <p:nvPr/>
        </p:nvSpPr>
        <p:spPr>
          <a:xfrm>
            <a:off x="9398160" y="3657600"/>
            <a:ext cx="3276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moyennes mobiles de «filtrent» les données de «haute fréquence», isolant les composants plus « lents » comme la saisonnalité et la variabilité interannuelle</a:t>
            </a:r>
            <a:r>
              <a:rPr b="0" lang="fr-FR" sz="20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1320" y="-152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Moyennes mobiles de 11 semaines</a:t>
            </a:r>
            <a:r>
              <a:rPr b="0" lang="fr-FR" sz="6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0760" y="2146320"/>
            <a:ext cx="12255480" cy="2476440"/>
            <a:chOff x="50760" y="2146320"/>
            <a:chExt cx="12255480" cy="2476440"/>
          </a:xfrm>
        </p:grpSpPr>
        <p:pic>
          <p:nvPicPr>
            <p:cNvPr id="818" name="" descr=""/>
            <p:cNvPicPr/>
            <p:nvPr/>
          </p:nvPicPr>
          <p:blipFill>
            <a:blip r:embed="rId1"/>
            <a:srcRect l="10112" t="24727" r="8890" b="58532"/>
            <a:stretch/>
          </p:blipFill>
          <p:spPr>
            <a:xfrm>
              <a:off x="50760" y="2146320"/>
              <a:ext cx="925848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9931320" y="29084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Cycle saisonnier évident pour la températur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14480" y="4622760"/>
            <a:ext cx="12318840" cy="2336760"/>
            <a:chOff x="114480" y="4622760"/>
            <a:chExt cx="12318840" cy="2336760"/>
          </a:xfrm>
        </p:grpSpPr>
        <p:sp>
          <p:nvSpPr>
            <p:cNvPr id="821" name=""/>
            <p:cNvSpPr/>
            <p:nvPr/>
          </p:nvSpPr>
          <p:spPr>
            <a:xfrm>
              <a:off x="10058760" y="5067360"/>
              <a:ext cx="23745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Assez grandes déviations d'une année à l’autr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822" name="" descr=""/>
            <p:cNvPicPr/>
            <p:nvPr/>
          </p:nvPicPr>
          <p:blipFill>
            <a:blip r:embed="rId2"/>
            <a:srcRect l="10666" t="41471" r="8445" b="42733"/>
            <a:stretch/>
          </p:blipFill>
          <p:spPr>
            <a:xfrm>
              <a:off x="114480" y="4622760"/>
              <a:ext cx="9245520" cy="23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"/>
          <p:cNvGrpSpPr/>
          <p:nvPr/>
        </p:nvGrpSpPr>
        <p:grpSpPr>
          <a:xfrm>
            <a:off x="38160" y="6972480"/>
            <a:ext cx="12395160" cy="2628720"/>
            <a:chOff x="38160" y="6972480"/>
            <a:chExt cx="12395160" cy="2628720"/>
          </a:xfrm>
        </p:grpSpPr>
        <p:sp>
          <p:nvSpPr>
            <p:cNvPr id="824" name=""/>
            <p:cNvSpPr/>
            <p:nvPr/>
          </p:nvSpPr>
          <p:spPr>
            <a:xfrm>
              <a:off x="10058400" y="7594560"/>
              <a:ext cx="2374920" cy="15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Pas de cycle saisonnier évident; beaucoup de variation d’une année a l’autr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825" name="" descr=""/>
            <p:cNvPicPr/>
            <p:nvPr/>
          </p:nvPicPr>
          <p:blipFill>
            <a:blip r:embed="rId3"/>
            <a:srcRect l="9999" t="57355" r="9554" b="24873"/>
            <a:stretch/>
          </p:blipFill>
          <p:spPr>
            <a:xfrm>
              <a:off x="38160" y="6972480"/>
              <a:ext cx="9194760" cy="262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0" y="0"/>
            <a:ext cx="13004640" cy="114300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60240" y="-406800"/>
            <a:ext cx="1186200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Qu'est-ce que l'analyse de séries temporelles</a:t>
            </a: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Une série temporelle est une séquence de </a:t>
            </a:r>
            <a:r>
              <a:rPr b="0" lang="fr-FR" sz="3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points de données,</a:t>
            </a: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 mesurée habituellement à des moments successifs, espacés à (souvent uniforme) intervalles de temps.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Ordre temporel naturel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’analyse de séries temporelles inclut des méthodes qui tentent de comprendre ces séries, afin soit de comprendre le contexte sous-jacent des ces données (d’où viennent-elles, comment furent-elles générées), soit de faire des prévisions (prédictions).</a:t>
            </a:r>
            <a:r>
              <a:rPr b="0" lang="fr-FR" sz="2600" spc="-1" strike="noStrike">
                <a:solidFill>
                  <a:srgbClr val="747474"/>
                </a:solidFill>
                <a:latin typeface="Helvetica Neue"/>
              </a:rPr>
              <a:t>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-698400" y="-1136520"/>
            <a:ext cx="10667880" cy="138049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9728280" y="3009960"/>
            <a:ext cx="2603520" cy="40644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Déviations hebdomadaires par rapport a  la moyenne mobile</a:t>
            </a:r>
            <a:r>
              <a:rPr b="0" lang="fr-FR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"/>
          <p:cNvSpPr/>
          <p:nvPr/>
        </p:nvSpPr>
        <p:spPr>
          <a:xfrm>
            <a:off x="10058400" y="4699080"/>
            <a:ext cx="23749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variations hebdomadaires sont "filtrées" par les moyennes de 11 semaine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"/>
          <p:cNvSpPr/>
          <p:nvPr/>
        </p:nvSpPr>
        <p:spPr>
          <a:xfrm>
            <a:off x="9239400" y="426708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018720" cy="1167156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9131400" y="5321160"/>
            <a:ext cx="3301920" cy="1409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71320" y="-152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Calcul du cycle saisonnier moyen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71320" y="2323800"/>
            <a:ext cx="11861640" cy="86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8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jouter N années pour chaque semaine de calendrier « w » (week):</a:t>
            </a:r>
            <a:r>
              <a:rPr b="0" lang="fr-FR" sz="3600" spc="-1" strike="noStrike">
                <a:solidFill>
                  <a:srgbClr val="747474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5649840" y="-1163520"/>
            <a:ext cx="7353360" cy="1385892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71320" y="763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Calcul du cycle saisonnier moyen</a:t>
            </a:r>
            <a:endParaRPr b="0" lang="en-US" sz="5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alculer la moyenne des séries temporelles sur toutes les années 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Par exemple, de la moyenne sur plusieurs années de chaque semaine, a partir  du 1er janvier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(les semaines épidémiologiques ne peuvent pas être utilisées directement sans approximation)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Il est généralement préférable de débuter avec la série lissée, surtout si nous ne disposons que de quelques années 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9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moyennes mensuelles des données climatiques sont souvent utilisées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1320" y="763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Cycle saisonnier moyen</a:t>
            </a:r>
            <a:endParaRPr b="0" lang="en-US" sz="54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55680" y="4470480"/>
            <a:ext cx="11937960" cy="2438280"/>
            <a:chOff x="355680" y="4470480"/>
            <a:chExt cx="11937960" cy="2438280"/>
          </a:xfrm>
        </p:grpSpPr>
        <p:sp>
          <p:nvSpPr>
            <p:cNvPr id="848" name=""/>
            <p:cNvSpPr/>
            <p:nvPr/>
          </p:nvSpPr>
          <p:spPr>
            <a:xfrm>
              <a:off x="9918720" y="51944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Température &amp; précipitations semblent varier inversement 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849" name="" descr=""/>
            <p:cNvPicPr/>
            <p:nvPr/>
          </p:nvPicPr>
          <p:blipFill>
            <a:blip r:embed="rId1"/>
            <a:srcRect l="10444" t="40955" r="9999" b="42561"/>
            <a:stretch/>
          </p:blipFill>
          <p:spPr>
            <a:xfrm>
              <a:off x="355680" y="4470480"/>
              <a:ext cx="909324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0" name=""/>
          <p:cNvGrpSpPr/>
          <p:nvPr/>
        </p:nvGrpSpPr>
        <p:grpSpPr>
          <a:xfrm>
            <a:off x="291960" y="6908760"/>
            <a:ext cx="12001680" cy="2705040"/>
            <a:chOff x="291960" y="6908760"/>
            <a:chExt cx="12001680" cy="2705040"/>
          </a:xfrm>
        </p:grpSpPr>
        <p:sp>
          <p:nvSpPr>
            <p:cNvPr id="851" name=""/>
            <p:cNvSpPr/>
            <p:nvPr/>
          </p:nvSpPr>
          <p:spPr>
            <a:xfrm>
              <a:off x="9918720" y="7200720"/>
              <a:ext cx="237492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Le nombre de cas semble ici avoir un cycle saisonnier, mais est-ce vraiment le cas?</a:t>
              </a:r>
              <a:r>
                <a:rPr b="0" lang="fr-FR" sz="1600" spc="-1" strike="noStrike">
                  <a:solidFill>
                    <a:srgbClr val="000000"/>
                  </a:solidFill>
                  <a:latin typeface="Helvetica Neue Ligh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2"/>
            <a:srcRect l="9890" t="57439" r="8777" b="24273"/>
            <a:stretch/>
          </p:blipFill>
          <p:spPr>
            <a:xfrm>
              <a:off x="291960" y="6908760"/>
              <a:ext cx="9296280" cy="270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3" name=""/>
          <p:cNvGrpSpPr/>
          <p:nvPr/>
        </p:nvGrpSpPr>
        <p:grpSpPr>
          <a:xfrm>
            <a:off x="355680" y="2070000"/>
            <a:ext cx="9296280" cy="2540160"/>
            <a:chOff x="355680" y="2070000"/>
            <a:chExt cx="9296280" cy="2540160"/>
          </a:xfrm>
        </p:grpSpPr>
        <p:pic>
          <p:nvPicPr>
            <p:cNvPr id="854" name="" descr=""/>
            <p:cNvPicPr/>
            <p:nvPr/>
          </p:nvPicPr>
          <p:blipFill>
            <a:blip r:embed="rId3"/>
            <a:srcRect l="10444" t="24727" r="10444" b="58360"/>
            <a:stretch/>
          </p:blipFill>
          <p:spPr>
            <a:xfrm>
              <a:off x="355680" y="2070000"/>
              <a:ext cx="904248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4"/>
            <a:srcRect l="9890" t="73238" r="8777" b="24786"/>
            <a:stretch/>
          </p:blipFill>
          <p:spPr>
            <a:xfrm>
              <a:off x="355680" y="4317840"/>
              <a:ext cx="9296280" cy="292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Rectangle 22"/>
          <p:cNvSpPr/>
          <p:nvPr/>
        </p:nvSpPr>
        <p:spPr>
          <a:xfrm>
            <a:off x="0" y="0"/>
            <a:ext cx="61214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1320" y="-17820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Mise en garde</a:t>
            </a:r>
            <a:r>
              <a:rPr b="0" lang="fr-FR" sz="6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moyennes qui constituent le cycle saisonnier moyen sont soumises à une variabilité d'échantillonnage </a:t>
            </a:r>
            <a:endParaRPr b="0" lang="en-US" sz="22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Il peut y avoir des erreurs importantes lorsque le nombre d'années utilises pour calculer la moyenne est petit (ici seulement 6)</a:t>
            </a:r>
            <a:r>
              <a:rPr b="0" lang="fr-FR" sz="1800" spc="-1" strike="noStrike">
                <a:solidFill>
                  <a:srgbClr val="747474"/>
                </a:solidFill>
                <a:latin typeface="Helvetica Neue"/>
              </a:rPr>
              <a:t> </a:t>
            </a:r>
            <a:endParaRPr b="0" lang="en-US" sz="18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Nous pouvons faire une estimation en traçant l'erreur-type point par point</a:t>
            </a:r>
            <a:endParaRPr b="0" lang="en-US" sz="22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5524560" y="-4254480"/>
            <a:ext cx="7772400" cy="1851660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1486080" y="7594560"/>
            <a:ext cx="219708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87320" y="-76680"/>
            <a:ext cx="1186200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Comparaison avec le cycle moyen saisonnier</a:t>
            </a:r>
            <a:r>
              <a:rPr b="0" lang="fr-FR" sz="6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190440" y="2247840"/>
            <a:ext cx="12242880" cy="2413080"/>
            <a:chOff x="190440" y="2247840"/>
            <a:chExt cx="12242880" cy="2413080"/>
          </a:xfrm>
        </p:grpSpPr>
        <p:pic>
          <p:nvPicPr>
            <p:cNvPr id="866" name="" descr=""/>
            <p:cNvPicPr/>
            <p:nvPr/>
          </p:nvPicPr>
          <p:blipFill>
            <a:blip r:embed="rId1"/>
            <a:srcRect l="9554" t="24556" r="9331" b="59132"/>
            <a:stretch/>
          </p:blipFill>
          <p:spPr>
            <a:xfrm>
              <a:off x="190440" y="2247840"/>
              <a:ext cx="927108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10058400" y="2590920"/>
              <a:ext cx="23749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Le cycle saisonnier moyen est répété chaque année (en noir) 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190440" y="4724280"/>
            <a:ext cx="12242880" cy="2387520"/>
            <a:chOff x="190440" y="4724280"/>
            <a:chExt cx="12242880" cy="2387520"/>
          </a:xfrm>
        </p:grpSpPr>
        <p:sp>
          <p:nvSpPr>
            <p:cNvPr id="869" name=""/>
            <p:cNvSpPr/>
            <p:nvPr/>
          </p:nvSpPr>
          <p:spPr>
            <a:xfrm>
              <a:off x="10058400" y="4863960"/>
              <a:ext cx="2374920" cy="19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Les écarts entre les courbes permettent d’isoler les années exceptionnelles 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870" name="" descr=""/>
            <p:cNvPicPr/>
            <p:nvPr/>
          </p:nvPicPr>
          <p:blipFill>
            <a:blip r:embed="rId2"/>
            <a:srcRect l="9554" t="41299" r="8554" b="42561"/>
            <a:stretch/>
          </p:blipFill>
          <p:spPr>
            <a:xfrm>
              <a:off x="190440" y="4724280"/>
              <a:ext cx="9360000" cy="23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1" name=""/>
          <p:cNvGrpSpPr/>
          <p:nvPr/>
        </p:nvGrpSpPr>
        <p:grpSpPr>
          <a:xfrm>
            <a:off x="203040" y="7112160"/>
            <a:ext cx="12230280" cy="2577960"/>
            <a:chOff x="203040" y="7112160"/>
            <a:chExt cx="12230280" cy="2577960"/>
          </a:xfrm>
        </p:grpSpPr>
        <p:sp>
          <p:nvSpPr>
            <p:cNvPr id="872" name=""/>
            <p:cNvSpPr/>
            <p:nvPr/>
          </p:nvSpPr>
          <p:spPr>
            <a:xfrm>
              <a:off x="10058400" y="7506000"/>
              <a:ext cx="23749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17245f"/>
                  </a:solidFill>
                  <a:latin typeface="Arial"/>
                  <a:ea typeface="ＭＳ Ｐゴシック"/>
                </a:rPr>
                <a:t>Les variations du paludisme sont beaucoup plus grandes que pour temp. et precip.</a:t>
              </a:r>
              <a:r>
                <a:rPr b="0" lang="fr-FR" sz="1400" spc="-1" strike="noStrike">
                  <a:solidFill>
                    <a:srgbClr val="000000"/>
                  </a:solidFill>
                  <a:latin typeface="Helvetica Neue Light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3"/>
            <a:srcRect l="9667" t="57439" r="7555" b="25133"/>
            <a:stretch/>
          </p:blipFill>
          <p:spPr>
            <a:xfrm>
              <a:off x="203040" y="7112160"/>
              <a:ext cx="9461520" cy="2577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71320" y="763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Anomalies: </a:t>
            </a:r>
            <a:br>
              <a:rPr sz="4000"/>
            </a:b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déviations par rapport au cycle saisonnier moyen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114480" y="2197080"/>
            <a:ext cx="12610440" cy="2374920"/>
            <a:chOff x="114480" y="2197080"/>
            <a:chExt cx="12610440" cy="2374920"/>
          </a:xfrm>
        </p:grpSpPr>
        <p:pic>
          <p:nvPicPr>
            <p:cNvPr id="878" name="" descr=""/>
            <p:cNvPicPr/>
            <p:nvPr/>
          </p:nvPicPr>
          <p:blipFill>
            <a:blip r:embed="rId1"/>
            <a:stretch/>
          </p:blipFill>
          <p:spPr>
            <a:xfrm>
              <a:off x="9537480" y="2984400"/>
              <a:ext cx="318744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2"/>
            <a:srcRect l="8222" t="24812" r="9331" b="59132"/>
            <a:stretch/>
          </p:blipFill>
          <p:spPr>
            <a:xfrm>
              <a:off x="114480" y="2197080"/>
              <a:ext cx="9423000" cy="23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"/>
          <p:cNvSpPr/>
          <p:nvPr/>
        </p:nvSpPr>
        <p:spPr>
          <a:xfrm>
            <a:off x="10058400" y="5600880"/>
            <a:ext cx="23749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... </a:t>
            </a:r>
            <a:r>
              <a:rPr b="0" lang="fr-FR" sz="26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... peut aider à identifier des associations éventuelles 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rcRect l="9890" t="41127" r="9331" b="42733"/>
          <a:stretch/>
        </p:blipFill>
        <p:spPr>
          <a:xfrm>
            <a:off x="304920" y="4610160"/>
            <a:ext cx="9232920" cy="23875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rcRect l="8554" t="57614" r="9331" b="24873"/>
          <a:stretch/>
        </p:blipFill>
        <p:spPr>
          <a:xfrm>
            <a:off x="152280" y="7048440"/>
            <a:ext cx="9385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571680" y="2095560"/>
            <a:ext cx="6502320" cy="7467480"/>
          </a:xfrm>
          <a:prstGeom prst="rect">
            <a:avLst/>
          </a:prstGeom>
          <a:ln w="0">
            <a:noFill/>
          </a:ln>
        </p:spPr>
      </p:pic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Indices El Niño SST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7746840" y="3454560"/>
            <a:ext cx="4876920" cy="215892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7289640" y="2548080"/>
            <a:ext cx="4127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adres SST</a:t>
            </a:r>
            <a:endParaRPr b="0" lang="en-US" sz="3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71320" y="-7668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Associations? — </a:t>
            </a:r>
            <a:r>
              <a:rPr b="0" lang="fr-FR" sz="4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quelques commentaires</a:t>
            </a:r>
            <a:r>
              <a:rPr b="0" lang="fr-FR" sz="68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ntre les précipitations et la température sont plus claires, notamment pour le cycle saisonnier moyen</a:t>
            </a: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8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eci est attendu sur les sols physiques, parce que les ciels clairs et les conditions sèches conduisent à des températures plus élevées, notamment Tmax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associations entre les variables climatiques et les cas de paludisme peuvent ne pas être évidentes immédiatement</a:t>
            </a: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8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es associations devraient être a priori recherchées sur les sols physiques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8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valeurs quotidiennes des précipitations peuvent être plus pertinentes, et peuvent être utilisées de manière appropriée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8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diurnal Tmin or Tmax may be more relevant than daily mean temperature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8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min ou Tmax diurnes peuvent être plus pertinente que la température quotidienne moyenne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 (relativement) peu de données épidémiologiques peut être un facteur limitant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8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analyses multivariées peuvent aider à isoler une relation cohérente au sein d’un espace donné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Résumé</a:t>
            </a:r>
            <a:r>
              <a:rPr b="0" lang="fr-FR" sz="8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 simple fait de calculer une moyenne permet au « bruit » météorologique de haute fréquence et a la variabilité d'échantillonnage d’être lissés, dans une certaine mesure, ce qui rend les variations climatiques saisonnières visibles au sein de séries temporelles quotidiennes de précipitations et de température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Utiliser des semaines épidémiologiques permet aux données météorologiques et épidémiologiques pour être comparées directement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lnSpc>
                <a:spcPct val="80000"/>
              </a:lnSpc>
              <a:spcBef>
                <a:spcPts val="1199"/>
              </a:spcBef>
              <a:buClr>
                <a:srgbClr val="17245f"/>
              </a:buClr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données météorologiques quotidiennes définies sur une base hebdomadaire peut être plus significatives que la moyenne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variations saisonnières a long terme peuvent être mises en évidence par un filtre de moyenne mobile 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 cycle saisonnier moyen est susceptible de mettre en évidence les relations climat-santé principales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deviations from the mean seasonal cycle may identify climate-induced anomalies in epidemiological data if there are sufficiently long multi-year time series available</a:t>
            </a:r>
            <a:endParaRPr b="0" lang="en-US" sz="25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déviations par rapport au cycle saisonnier moyen peuvent identifier les anomalies dans les données épidémiologiques liées au climat, si suffisant de longues séries temporelles sont disponibles</a:t>
            </a:r>
            <a:r>
              <a:rPr b="0" lang="fr-FR" sz="1900" spc="-1" strike="noStrike">
                <a:solidFill>
                  <a:srgbClr val="747474"/>
                </a:solidFill>
                <a:latin typeface="Helvetica Neue"/>
              </a:rPr>
              <a:t>  </a:t>
            </a:r>
            <a:endParaRPr b="0" lang="en-US" sz="19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004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de San Jose del Guaviare, en Colombie </a:t>
            </a:r>
            <a:br>
              <a:rPr sz="2800"/>
            </a:b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Séries temporelles</a:t>
            </a: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 des </a:t>
            </a: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précipitations, de la température et du paludisme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8547120" y="2946240"/>
            <a:ext cx="3289320" cy="43624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558720" y="2971800"/>
            <a:ext cx="7404120" cy="55530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8813880" y="7581960"/>
            <a:ext cx="3200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an Jose se trouve sur la rivière Guaviare, dans une zone de transition entre les Llanos (plaines herbeuses) au nord et tropicales, les forêts tropicales semi-décidues dans le sud. 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150m d'altitude 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Diapositives </a:t>
            </a: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upplémentaires</a:t>
            </a: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5765760" y="584280"/>
            <a:ext cx="7772400" cy="1005840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-787320" y="58428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1320" y="-10152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Quid des </a:t>
            </a: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anomalies mensuelles, saisonnières ou annuelles?</a:t>
            </a: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6032520" y="584280"/>
            <a:ext cx="7772400" cy="100584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-533520" y="58428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1320" y="-7668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... la période de calcul de la moyenne doit être choisie avec soin</a:t>
            </a: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-1028880" y="-1498680"/>
            <a:ext cx="11430360" cy="1479096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Histogrammes de données brutes hebdomadaires</a:t>
            </a: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"/>
          <p:cNvSpPr/>
          <p:nvPr/>
        </p:nvSpPr>
        <p:spPr>
          <a:xfrm>
            <a:off x="9740880" y="612144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Notez le “mur” a zéro pour les précipitations et les cas de paludism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"/>
          <p:cNvSpPr/>
          <p:nvPr/>
        </p:nvSpPr>
        <p:spPr>
          <a:xfrm>
            <a:off x="9740880" y="3086280"/>
            <a:ext cx="23749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histogrammes visualisent la répartition des données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1003320" y="-1359000"/>
            <a:ext cx="11430000" cy="14790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71320" y="-7668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Histogrammes des moyennes saisonnières</a:t>
            </a: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"/>
          <p:cNvSpPr/>
          <p:nvPr/>
        </p:nvSpPr>
        <p:spPr>
          <a:xfrm>
            <a:off x="9804240" y="4280040"/>
            <a:ext cx="23749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Notez comme les précipitations sont devenues plus symétriques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-851040" y="-1587600"/>
            <a:ext cx="11430000" cy="1479096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Histogrammes des anomalies saisonnières</a:t>
            </a: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"/>
          <p:cNvSpPr/>
          <p:nvPr/>
        </p:nvSpPr>
        <p:spPr>
          <a:xfrm>
            <a:off x="9804240" y="4800600"/>
            <a:ext cx="23749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… </a:t>
            </a:r>
            <a:r>
              <a:rPr b="0" lang="fr-FR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es distributions des précipitations et des cas de paludisme sont devenues encore plus symétrique</a:t>
            </a:r>
            <a:r>
              <a:rPr b="0" lang="fr-FR" sz="1600" spc="-1" strike="noStrike">
                <a:solidFill>
                  <a:srgbClr val="000000"/>
                </a:solidFill>
                <a:latin typeface="Helvetica Neue Light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431640" y="-1362240"/>
            <a:ext cx="11036520" cy="142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color_smoothing+null+psdef+-1" descr=""/>
          <p:cNvPicPr/>
          <p:nvPr/>
        </p:nvPicPr>
        <p:blipFill>
          <a:blip r:embed="rId1"/>
          <a:stretch/>
        </p:blipFill>
        <p:spPr>
          <a:xfrm>
            <a:off x="279360" y="2336760"/>
            <a:ext cx="11987280" cy="65530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Mousson de l’Amérique du Sud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"/>
          <p:cNvSpPr/>
          <p:nvPr/>
        </p:nvSpPr>
        <p:spPr>
          <a:xfrm>
            <a:off x="5638680" y="4800600"/>
            <a:ext cx="368280" cy="44460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1320" y="15192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Données disponibles, climatiques et sur le paludisme </a:t>
            </a:r>
            <a:br>
              <a:rPr sz="3200"/>
            </a:br>
            <a:r>
              <a:rPr b="0" lang="fr-FR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San José del Guaviare</a:t>
            </a:r>
            <a:r>
              <a:rPr b="0" lang="fr-FR" sz="4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69800" y="2324160"/>
            <a:ext cx="118620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Données hebdomadaires sur le paludisme - Nombre de cas à P. falciparum - depuis 2001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nregistrements de stations météorologiques des précipitations quotidiennes et des températures depuis 1982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0" y="0"/>
            <a:ext cx="13004640" cy="137160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1320" y="-15228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Moyennes hebdomadaires </a:t>
            </a:r>
            <a:br>
              <a:rPr sz="4000"/>
            </a:b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 Semaines épidémiologiq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rcRect l="7555" t="24445" r="8332" b="58902"/>
          <a:stretch/>
        </p:blipFill>
        <p:spPr>
          <a:xfrm>
            <a:off x="1003320" y="2070000"/>
            <a:ext cx="9613800" cy="246384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2"/>
          <a:srcRect l="8554" t="41273" r="10553" b="42155"/>
          <a:stretch/>
        </p:blipFill>
        <p:spPr>
          <a:xfrm>
            <a:off x="1117440" y="4559400"/>
            <a:ext cx="9245880" cy="245088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"/>
          <a:srcRect l="8890" t="57413" r="10112" b="24727"/>
          <a:stretch/>
        </p:blipFill>
        <p:spPr>
          <a:xfrm>
            <a:off x="1155600" y="6946920"/>
            <a:ext cx="9258480" cy="26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0" y="0"/>
            <a:ext cx="13004640" cy="152388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1320" y="-7668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Moyennes hebdomadaires </a:t>
            </a:r>
            <a:br>
              <a:rPr sz="4000"/>
            </a:b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 Semaines épidémiologiq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rcRect l="8554" t="41273" r="10553" b="42155"/>
          <a:stretch/>
        </p:blipFill>
        <p:spPr>
          <a:xfrm>
            <a:off x="1117440" y="4559400"/>
            <a:ext cx="9245880" cy="24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Rectangle 22"/>
          <p:cNvSpPr/>
          <p:nvPr/>
        </p:nvSpPr>
        <p:spPr>
          <a:xfrm>
            <a:off x="0" y="0"/>
            <a:ext cx="13004640" cy="160020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71320" y="5040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Moyennes hebdomadaires</a:t>
            </a: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 Semaines épidémiologiques</a:t>
            </a:r>
            <a:endParaRPr b="0" lang="en-US" sz="28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rcRect l="8890" t="57413" r="10112" b="24727"/>
          <a:stretch/>
        </p:blipFill>
        <p:spPr>
          <a:xfrm>
            <a:off x="1155600" y="6946920"/>
            <a:ext cx="92584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1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Rectangle 22"/>
          <p:cNvSpPr/>
          <p:nvPr/>
        </p:nvSpPr>
        <p:spPr>
          <a:xfrm>
            <a:off x="0" y="0"/>
            <a:ext cx="13004640" cy="167652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71320" y="27900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Quelques objectifs de l'analyse exploratoire des données</a:t>
            </a:r>
            <a:r>
              <a:rPr b="0" lang="fr-FR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71320" y="2882520"/>
            <a:ext cx="1186164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Quelle est la nature des séries temporelles?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Y a-t-il des "régularités" dans ces séries, comme un cycle saisonnier ou des tendances?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Qu’est-ce que le temps, qu’est ce que le climat?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Que sont les anomalies et comment pouvons-nous identifier ce qui est «anormal»?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xiste-t-il des associations éventuelles entre des variables qui méritent une analyse plus approfondie?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De combien de données avons-nous besoin? </a:t>
            </a:r>
            <a:endParaRPr b="0" lang="en-US" sz="3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cibrelus</cp:lastModifiedBy>
  <dcterms:modified xsi:type="dcterms:W3CDTF">2009-10-01T19:23:31Z</dcterms:modified>
  <cp:revision>15</cp:revision>
  <dc:subject/>
  <dc:title>exploratory time series analysis</dc:title>
</cp:coreProperties>
</file>